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F41-3DA6-40AD-B657-AC8585771B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last around 1 hour. If learners do not have access to computers, the teacher will need to print out copies of both the Easier English and the original article beforeh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A788-C965-4023-82C0-2A5CBA6EC083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in pairs /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ould guide learners towards discussing all reading skills including lexical knowle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AD99-8815-4865-BF1E-DA4AA22A5E3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discuss briefly before they read to predict ans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7AB6-F0CC-49E6-984C-9E7DE0EC1206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a paper copy of the text, or learners log on to a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will need to scan for answers to questions 1 and 2, and skim to answer question 3: 3 minut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ACA9-1503-4D7D-93F2-CBFDE8FA0CDE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hand out copies of the original version, or learners can log onto computer / tab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0EEE-BB1B-4F20-8243-44003FE6BEF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compare Easier English and original articles : just this paragraph, or the whole arti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FDDC-3553-4056-ACFA-0BF75AFC0F42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task could be divided up eg. each learner finds 3 interesting new phrases / words to sh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81E-A587-4564-A7C8-D510AD7F249A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discuss the answers, then whole class feedback. Learners should see how much easier it is to read the original article after reading the simplified version and developing vocabulary firs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843E-A575-4F99-A65F-3F2D6BCACD05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724-1D99-46B2-907C-BB1DBBABA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030-C222-493D-888F-8AB387C2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7F4-B053-4A01-9CD8-4B5844243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077-38A2-4AB9-8E1D-295C887D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069-458C-4923-BACD-6F35A10C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59A2-EE8D-4756-8DA9-1453AF1E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738-6385-4667-8B0D-3382E388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429-6A7A-4D8E-A070-604430F9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923-998D-4263-8E2F-62F4EB96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944-4275-4821-9F61-E0EA81BB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389E-6998-4498-B4B8-B2437312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5E6F-91B3-433F-8A27-AED3571F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e3d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bcbcb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45F-756D-4F27-B367-70B05EB04592}" type="slidenum">
              <a:rPr b="0" lang="en-GB" sz="12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20840" y="1773360"/>
            <a:ext cx="8229600" cy="3732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5013000"/>
            <a:ext cx="813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ew Internationalist Easier English Ready Less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Upper Intermedi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3708360" y="476280"/>
            <a:ext cx="48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good is your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How could you read better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stops you reading more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1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Book Antiqua"/>
              </a:rPr>
              <a:t>What problems do you have when reading?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>
              <a:spcBef>
                <a:spcPts val="13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eewiki.newint.org/index.php/Working_like_a_hor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Find the answers and discus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an “equid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at’s “SPANA”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Which are more important: people or animals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9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Look at the original article - you can click on the link at the bottom of the Easier English article, or go t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te down all the words/phrases you are not sure of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5796000" y="4869000"/>
            <a:ext cx="28702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600200"/>
            <a:ext cx="4114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About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a billion poor people in the world rely on animals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live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, for transport and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to earn their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. But many people </a:t>
            </a:r>
            <a:r>
              <a:rPr b="0" lang="en-GB" sz="3600" spc="-1" strike="noStrike">
                <a:solidFill>
                  <a:srgbClr val="ff0000"/>
                </a:solidFill>
                <a:latin typeface="Book Antiqua"/>
              </a:rPr>
              <a:t>don’t have the money</a:t>
            </a: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 for veterinary care</a:t>
            </a:r>
            <a:r>
              <a:rPr b="0" lang="en-GB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171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Around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 a billion of the world’s poor rely on animals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for subsistenc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, transport and to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generate an income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. But many </a:t>
            </a:r>
            <a:r>
              <a:rPr b="0" lang="en-US" sz="3600" spc="-1" strike="noStrike">
                <a:solidFill>
                  <a:srgbClr val="00b0f0"/>
                </a:solidFill>
                <a:latin typeface="Book Antiqua"/>
              </a:rPr>
              <a:t>cannot afford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veterinary car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ook Antiqua"/>
              </a:rPr>
              <a:t>Share, compare and list new vocabulary and phrase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2340000" y="3151080"/>
            <a:ext cx="525924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95280" y="1341360"/>
            <a:ext cx="83534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Now read the original article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ook Antiqua"/>
              </a:rPr>
              <a:t>http://newint.org/sections/agenda/2013/09/01/animal-protection-helps-people/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ook Antiqua"/>
              </a:rPr>
              <a:t>to answer these questions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1/ Why do SPANA treat animals for free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2/ Why was the donkey important to the Moroccan boy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ook Antiqua"/>
              </a:rPr>
              <a:t>3/ Why can it be more serious if cows are ill than if children are ill?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95280" y="1267920"/>
            <a:ext cx="8353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ook at the wiki site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http://eewiki.newint.org/index.php/Main_Page       and find an interesting article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Do the same thing again: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Easier English article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Read the original (click the link at the bottom)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f9f9f9"/>
              </a:buClr>
              <a:buSzPct val="65000"/>
              <a:buFont typeface="Book Antiqu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ook Antiqua"/>
              </a:rPr>
              <a:t>Learn the new vocabulary and phrases by comparing both articles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2:15:54Z</dcterms:created>
  <dc:creator>windows 7 image</dc:creator>
  <dc:description/>
  <dc:language>en-US</dc:language>
  <cp:lastModifiedBy>Linda Ruas</cp:lastModifiedBy>
  <dcterms:modified xsi:type="dcterms:W3CDTF">2013-09-08T15:12:45Z</dcterms:modified>
  <cp:revision>6</cp:revision>
  <dc:subject/>
  <dc:title>PowerPoint Presentation</dc:title>
</cp:coreProperties>
</file>